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E9AD-BE0F-4AB4-8C00-2312FCACD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0B08-0A7C-4B73-ACEE-E239ABF09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E4AE36-ADF1-4C52-9B9D-101998BD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B8D1-01AE-4DB9-8603-A3FA9707B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32A7D9-BEEC-4641-9777-F04B1AB3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88DC-7F69-4BBD-A915-DDA998AE5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1BE0-A22F-46DE-A475-D23577B53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B4E-D6D5-48F3-9D1D-07406FD8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6E8E-46DD-4FDA-8385-822419F90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98BC-055F-4ED3-828F-EF81DB757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3400-42DF-4D10-827C-1646AC29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6CA9-9353-4EE8-992F-EC2A4B3A1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E746-E02C-4B2E-B2DB-2DE2ACE8A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6178AA-FBC1-4EFA-A15B-79679EFBA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B356-667C-4020-BE46-E12994135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58C6-40F6-4D89-B127-1FE715876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FA7E-03D5-43DB-9F54-4464F1E5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30B3EE-8EF7-47DD-A68B-322A71CB6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d.openlinksw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blog/hcls" TargetMode="External"/><Relationship Id="rId2" Type="http://schemas.openxmlformats.org/officeDocument/2006/relationships/hyperlink" Target="http://esw.w3.org/topic/HCLSI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cls.deri.org/hcls_demo.html" TargetMode="External"/><Relationship Id="rId2" Type="http://schemas.openxmlformats.org/officeDocument/2006/relationships/hyperlink" Target="http://hcls.deri.org/coi/demo/" TargetMode="External"/><Relationship Id="rId3" Type="http://schemas.openxmlformats.org/officeDocument/2006/relationships/hyperlink" Target="http://www.w3.org/2009/08/7tmdemo" TargetMode="External"/><Relationship Id="rId4" Type="http://schemas.openxmlformats.org/officeDocument/2006/relationships/hyperlink" Target="http://adaptivedisclosure.org/" TargetMode="External"/><Relationship Id="rId5" Type="http://schemas.openxmlformats.org/officeDocument/2006/relationships/hyperlink" Target="http://sourceforge.net/projects/swobjects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CLS Tutorial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W3C Health Care and Life Sciences Interes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erence Present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-IT World, WWW, ISMB, AMI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)Organized Worksho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-SHALS, SWASD, SWAT4LS 2009, IEEE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blic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edings of LOD Workshop at WWW 2009: Enabling Tailored Therapeutics with Linked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edings of the ICBO: Pharma Ontology: Creating a Patient-Centric Ontology for Translational Medic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A Spring Symposium: Clinical Observations Interoperability: A Semantic Web Approa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MC Bioinformatics. A Journey to Semantic Web Query Federation in Life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efings in Bioinformatics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 Life sciences on the Semantic Web: The Neurocommons and Bey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’ve come a long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iplestores have gone from millions to bill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nked Open Data 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lod.openlinksw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 demand Knowledge Bases: Amazon’s E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rminologies: SNOMED-CT, MeSH, UMLS, 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urocommons, Flyweb, Biogateway, Bio2RDF, Linked Lif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ared Names, NCBO’s BioPortal, Concept Web Alliance (C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S/CWA/SIB Uniprot project sta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netrance of ontology in bio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O Foundry - http://www.obofoundry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ioPortal - http://bioportal.bioontology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Centers for Biomedical Computing http://www.ncbcs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ared Names http://sharednames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pt Web Alliance http://conceptweblog.wordpress.com/conferenc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mantic Web Interest Group PRISM Forum http://www.prismforum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packages in ELIXIR http://www.elixir-europe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v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resent knowledge so that others can discover where a fact (or triple) came from and evaluating how to use it – link facts to data as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d 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CLS works together with the Provenance IG (Yolanda Gi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come up in work in BioRDF and SciDisc task fo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pt Web Alliance has adopted SWAN/SIOC as the starting point for modeling prov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d Ident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use common URI’s in order to link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nance rel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iers for people (research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ology servers (identifiers for ter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for comp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Names initi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mis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a Semantic Web application does not necessarily require converting and storing all data in RD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e data where it liv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e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data accessible via RDF export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SPARQL end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468080"/>
            <a:ext cx="80773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s to getting involve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tise - Early access to use cases and best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 standard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effective exploration of new technology through collaboration and netwo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ak to any of us after the sess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ail chairs and team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-hcls-chairs@w3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e in the next F2F (last one was here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esw.w3.org/topic/HCLSIG/Meetings/2009-11-30_F2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torial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tro to W3C HCLS I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M. Scott Mars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ealth Care Use Ca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- Vipul Kashy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harma Use Ca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Elgar Pich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ientific Discourse Use Ca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Tim Cl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minology Consider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John Mad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ted Que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Kei Che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HC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M. Scott Marshall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co-chair HCLS IG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Leiden University Medical Center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University of Amsterd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of the HCLS 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ginally chartered in 200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rs: Eric Neumann and Tonya Hongserme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-chartered in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rs: Scott Marshall and Susie Step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m contact: Eric Prud’hommea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oad industry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100 memb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ing list of over 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www.w3.org/blog/hc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esw.w3.org/topic/HCLSI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ion of HCLS 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62036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ission of HCLS is to develop, advocate for, and support the use of Semantic Web technologies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ological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lational medi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omains stand to gain tremendous benefit by adoption of Semantic Web technologies, as they depend on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operability of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many domains and processes for efficient decision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ing across dom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ional medicine – use cases that cross do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 across domains and research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are the link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 – transcription factor – prote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thway – molecular interaction – chemical com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ug – drug side effect – chemical com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t al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nk discourse to raw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ument use c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id individuals in understanding the business and technical benefits of using Semantic Web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ument guidelin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lerate the adoption of the techn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lection of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 c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s proof-of-concept demonst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vel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leve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ocabul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seminate in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bout the group’s work at government, industry, and academic ev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the HCLS IG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teleconferences using teleconference bridge (Zakim), IRC,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2Face (F2F)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s for publishing W3C 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Task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20720"/>
            <a:ext cx="85345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ioRDF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federating (neuroscience) knowledge b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i Cheung (Yale Univer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inical Observations Interoperabilit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patient recruitment in t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pul Kashyap (Cigna Healthca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inking Open Drug Data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aggregation of Web-based drug da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 Bizer (Free University Berl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lational Medicine Ontolog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high level patient-centric ont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ti Denney (Eli Lill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ientific Discours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building communities through netwo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 Clark (Harvard Univers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minolog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Semantic Web representation of existing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hn Madden (Duke Univer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monstration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hcls.deri.org/hcls_demo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monstrator of querying across heterogeneous EHR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hcls.deri.org/coi/demo/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http://www.w3.org/2009/08/7tmde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4"/>
              </a:rPr>
              <a:t>http://ws.adaptivedisclosure.org/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CLS KB hosted at 2 institu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nked Open Data contribu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est Group No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CLS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gration of SWAN and SIOC ontologies for Scientific Discou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W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WAN-SI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ies: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hlinkClick r:id="rId5"/>
              </a:rPr>
              <a:t>http://sourceforge.net/projects/swobjects/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35:17Z</dcterms:created>
  <dc:creator>sstephens1</dc:creator>
  <dc:description/>
  <dc:language>en-US</dc:language>
  <cp:lastModifiedBy>scott</cp:lastModifiedBy>
  <dcterms:modified xsi:type="dcterms:W3CDTF">2010-02-24T19:58:48Z</dcterms:modified>
  <cp:revision>18</cp:revision>
  <dc:subject/>
  <dc:title>Slide 1</dc:title>
</cp:coreProperties>
</file>